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1467-FC3A-46D5-8C03-16F700E34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12FA-03C5-407C-868D-2EF0453D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75D0-2585-49B9-A674-675079A4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5E62-F453-4432-A887-B3C5070F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D6F8-3071-4554-8843-A6DFA79A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47FD-52CE-4346-97AE-C7B9D3C8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06B4-FE6A-4662-A706-15AFCB6D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ADB2-B3A1-443F-9196-5334077D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A638-E6F6-4759-8A06-FD3376CF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7A59-1B65-45C9-B8A1-B4DF6C45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28BB-C062-4F7E-B059-AFA335EC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3779-7877-4979-A64C-D9D40A3D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093D-DF18-46CB-A952-C1B94D2A117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3562486-6A78-4CAA-9124-BD54D6B4AD1C}" type="datetime12">
              <a:rPr b="0" lang="en-US" sz="1400" spc="-1" strike="noStrike">
                <a:solidFill>
                  <a:srgbClr val="000000"/>
                </a:solidFill>
                <a:latin typeface="Arial"/>
              </a:rPr>
              <a:t>09:36 AM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1F50-F744-4F5C-9C5E-06F80AB08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905120"/>
            <a:ext cx="792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Chemistry Test 9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6925-45A7-4256-84B6-C5C01EEF0C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Changes in St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Is it possible to boil water at room temperatu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ED50-7BDD-43E6-A596-4274107911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Changes in St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What is the temperature of water at boiling (assuming 1 atm)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014F-93A2-4032-A053-4A1504FC35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Vapor Pressu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ubstances with weaker IMF tend to have higher vapor pressur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A738-CC80-46EE-8EAF-8342B0C1B4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Vapor Pressu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quilibrium exists within a closed syst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What is happening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D172-A722-46D7-8E61-842705DBCF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Henry’s La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Pressure to gas-liquid solubil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What would happen with an increase in temperatu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F3D4-65B9-413E-B54F-FEB6BBCB2F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Molar He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he heat energy released or absorbe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Q=n*H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Q=n*H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D051-FFE9-4943-BBE7-F98AE61698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Soli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olecular, covalent network, ionic, metallic and amorpho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e able to ID (also props.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CD26-0BA8-489C-B2D4-C6CE34CE27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Phase 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ritical point, critical pressure, critical temperature, solid, liquid, gas (vapor), normal b.p., normal f.p., triple 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7723-62C0-44A7-A10D-39482F5EAC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Mixtur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olutions are homogeneo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lectrolytes conduct electric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aturated, unsaturated, supersaturat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B6D3-228D-4392-B14A-4D7C4305E3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Mixtur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ll solutions have a solute and a solv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Dissolving rates increase with stirring, heat and crushing the soli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449D-AA59-4DE1-B083-383F15663F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Tes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45 multiple cho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ach question holds the equal weight (1 pt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Write-on answer she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4 proble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6EB6-0353-4E5E-BE83-F1102BEB6F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Mixtur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eterogeneous: different properties through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olloids: settle i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uspensions: settle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yndall Effect (scattering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4F73-27C8-402C-B3C6-4B7431C22F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Polar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Polar dissolves pola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Nonpolar dissolves nonpol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Like dissolves like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7C0B-0180-4C60-89EF-ADF191141C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Molarit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 measure of concent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oles of solute per liters of solu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 = mol / 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037A-4F3D-47AE-993B-930563D2CE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Ideal Gas La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PV = n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e able to convert pressures and temperatur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2245-5C47-47AE-A64A-427EF40D44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Final Word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Finish all worksheets, staple th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e ready to go at start of class (seated with calculator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Get your point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EACB-BB53-4C94-A706-6A57B768728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commenda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Don’t just copy the W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Study how to answer the questions, don’t memoriz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Give yourself 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Plan your testing time wise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DDBD-43E1-4A91-88C1-5C945C1441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Intermolecular For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3 types (strongest to weakest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ydrogen, dipole-dipole, London dispersion for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7039-F375-4F11-B23C-8BC691BF25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Intermolecular For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hese forces are between molecu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hey govern states of matt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IMF increases between hydrocarbons with higher molar mas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E074-0F3C-4974-A6A5-892230C3DE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Intermolecular For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ubstances change states (i.e., liquid to gas) when they have enough energy to overcome their IMF (attractive forces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2E53-B3C0-45E5-8D62-11FD18303A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Intermolecular For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When comparing substances to one another, ask why will one evaporate faster than the other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A01D-1D53-4F67-9015-DE819A1BEA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Intermolecular For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Remember: hydrogen “bonding” is a force that exists within molecules that include H and N, O, 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6719-C4FD-4EE7-A631-BFB2572DEE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Changes in St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oiling, deposition, condensation, evaporation, melting, sublimation, vaporization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4B7F-4BF7-42C4-814F-46F2188F68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9:11:04Z</dcterms:created>
  <dc:creator>CFISD</dc:creator>
  <dc:description/>
  <dc:language>en-US</dc:language>
  <cp:lastModifiedBy>CFISD</cp:lastModifiedBy>
  <dcterms:modified xsi:type="dcterms:W3CDTF">2009-02-16T16:04:35Z</dcterms:modified>
  <cp:revision>61</cp:revision>
  <dc:subject/>
  <dc:title>Slide 1</dc:title>
</cp:coreProperties>
</file>